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5D4-F7FE-4FB5-A37D-DC7539C3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14D-991C-4B1C-A092-02B63F46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C86-720F-410B-B2C2-A98A333A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C25-6E86-4E91-9E25-23442D4A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749-C049-45BE-97DA-776CB0B8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C63-4F4D-4F82-86ED-87229CC2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FAB-C89E-44F9-AAD8-EB72771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F3F-BDBC-4B93-BAFF-2A08507D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EC6-DD7B-4023-A571-45805005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3AD-55F7-4D6E-9769-CE3C85F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698-C963-4B11-9ED6-EDCA10C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EFD-4182-4C70-BD18-4ED3C21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D99B-E56B-4594-88FA-F32CA3605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      Clase 6nm 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2-24 de abril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e gusta ir a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istorieta 7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Vas a la consulta d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¿Te ve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Te examina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Te habla el me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Según el medico, ¿Qué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Te receta unas pastil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. ¿Te despacha los medicamentos la farmacéu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pronombre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, te, no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telling what happens to wh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ready learned the pronou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, te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Do you remember with what verbs and/o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e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e interesa el 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¿te interesan las matemá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-La clase de historia nos ab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cc"/>
                </a:solidFill>
                <a:latin typeface="Arial"/>
              </a:rPr>
              <a:t>-Me aburre el béisbol en la telev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, 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object pronoun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pronoun is placed righ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er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l medico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xam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b-La farmacéutica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vende la rec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-La profesora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s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da un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pronouns tell us who is receiving the action of the verb. 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-The doctor examin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-The pharmacist sell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the pr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-The teacher giv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 ex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negative, you ad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ront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nou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El estudiant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me esc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8991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Make each sentence negative. Follow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is amigos me ve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s amigos no me 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ofesor nos hab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te doy los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 me compre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me esc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nos dicen la ver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Rewrite each statement as a question. Follow the model.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 Hint: put the </a:t>
            </a:r>
            <a:r>
              <a:rPr b="1" i="1" lang="es-ES_tradnl" sz="3200" spc="-1" strike="noStrike">
                <a:solidFill>
                  <a:srgbClr val="cc00cc"/>
                </a:solidFill>
                <a:latin typeface="Arial"/>
              </a:rPr>
              <a:t>S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ubject </a:t>
            </a:r>
            <a:r>
              <a:rPr b="1" i="1" lang="es-ES_tradnl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ronoun in front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los nos comprend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=   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¿Nos comprenden ell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s. me ayudan mañ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nos visitas en el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te doy la c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s me saludan e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nos escuc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304920" y="16765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3657600" y="2057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1066680" y="213372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574320" y="2057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5943600" y="2133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8001000" y="1600200"/>
            <a:ext cx="762120" cy="762120"/>
          </a:xfrm>
          <a:prstGeom prst="ellipse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8148240" y="23623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7 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3-04-24T19:09:10Z</dcterms:modified>
  <cp:revision>14</cp:revision>
  <dc:subject/>
  <dc:title>Me llamo ________ Clase 7 im La fecha es el 13 de mayo del 2011</dc:title>
</cp:coreProperties>
</file>